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472-FA02-44E6-B96F-D15A9431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83D-0945-45FB-92DE-3ACAA445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A94-4658-4813-BE87-24A87C60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FA5-19B3-468C-AFA8-0257BD9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BA8-7240-4632-9EFF-62F5061F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F6B-6B7A-47AD-8A0E-20840DEB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0F0-1DFF-40C1-9487-E1186A6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176-E173-439C-96AB-AFB2E1B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56C-6C87-4D96-A2F5-C2741DF1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8D1-6353-4AB4-A44A-7E051AF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D79-7352-4E5B-97B1-08F47D2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D35-0231-4B5C-B198-49112EC3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7DD3-739A-4CF2-8FB5-A1EEECCAA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4760" y="114480"/>
            <a:ext cx="2028960" cy="232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36440" y="4662360"/>
            <a:ext cx="2987640" cy="2014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MAV test operations will take place in Class G Airspace.  Flight operations will be conducted between 100 – 400 feet AGL.  Over lying class E Airspace begins at 700 feet A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640" y="295200"/>
            <a:ext cx="8172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32440" y="3636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4560" y="790560"/>
            <a:ext cx="6914880" cy="527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20529000">
            <a:off x="3352320" y="1904760"/>
            <a:ext cx="838440" cy="271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6765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50" name="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96120" y="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06160" y="1126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00920" cy="5019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581280"/>
            <a:ext cx="457200" cy="149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415200">
            <a:off x="4482720" y="2450880"/>
            <a:ext cx="457200" cy="149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999200">
            <a:off x="2936520" y="2141280"/>
            <a:ext cx="457200" cy="1650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21840" y="33210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9440" y="20574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8760" y="4952880"/>
            <a:ext cx="1829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1337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41911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65" name="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65600" y="106668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86440" cy="4314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57560" y="3228840"/>
            <a:ext cx="50864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16:10Z</dcterms:created>
  <dc:creator>RyanRA</dc:creator>
  <dc:description/>
  <dc:language>en-US</dc:language>
  <cp:lastModifiedBy>RyanRA</cp:lastModifiedBy>
  <dcterms:modified xsi:type="dcterms:W3CDTF">2007-11-21T16:02:46Z</dcterms:modified>
  <cp:revision>6</cp:revision>
  <dc:subject/>
  <dc:title>Slide 1</dc:title>
</cp:coreProperties>
</file>